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122-A9E3-4FD3-90E0-9C8523F2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900-CCB1-458B-86F2-F2C044C4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388-89A1-4378-8796-79B9FC22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515-2138-4ACD-B509-980682D0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979-340D-4E04-8686-10E85BED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14E-1011-47EB-BA29-F32ADB2C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9CF-27E5-41FA-A613-5D6C8E81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C67-C8D1-41E0-BB0F-E22F5295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662-E8C9-4B23-B17A-C5D2BEC8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32C-C2F4-4BF6-93EF-7F6A3EC3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45F-722D-4170-80C6-2B3BF6BD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1CC-52BB-4023-8BB5-25533843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623E-54ED-4BC8-984C-3E9E975E4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obyn 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eek City-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tudy of wisdom and the right way to l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t3.gstatic.com/images?q=tbn:ANd9GcRy38TBndXbW40siPymkpHwMgIM-3OFCnV5NectFzO5tW0VjF2V"/>
          <p:cNvPicPr/>
          <p:nvPr/>
        </p:nvPicPr>
        <p:blipFill>
          <a:blip r:embed="rId1"/>
          <a:stretch/>
        </p:blipFill>
        <p:spPr>
          <a:xfrm>
            <a:off x="228600" y="2590920"/>
            <a:ext cx="89154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t3.gstatic.com/images?q=tbn:ANd9GcTzhN9ifyjr3ObR8dU87_JKjkgE5xZzGPRP5WVUc7P4Zm0xIk83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720" y="990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t0.gstatic.com/images?q=tbn:ANd9GcRmTy0V6NYLHEnA9GNdaQvYFb92_xFiWy6AauDlIJTZ0K_wfEXR-w"/>
          <p:cNvPicPr/>
          <p:nvPr/>
        </p:nvPicPr>
        <p:blipFill>
          <a:blip r:embed="rId1"/>
          <a:stretch/>
        </p:blipFill>
        <p:spPr>
          <a:xfrm>
            <a:off x="0" y="3352680"/>
            <a:ext cx="876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002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http://t2.gstatic.com/images?q=tbn:ANd9GcR7ZAC2QJLVNXbrCS_b-cG1rQCiahFXsGGTLTSbzpHaYGVoFKqW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t1.gstatic.com/images?q=tbn:ANd9GcSLIbxl9qeT2HGBXqZoHacenl0lhJanq6KuiZZeXJ_WbwlznZL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3.gstatic.com/images?q=tbn:ANd9GcTwPiDj-6I4Box7h93mpmGuOzmveZCGZRieBg0j6kg4OjsTtCIKOg"/>
          <p:cNvPicPr/>
          <p:nvPr/>
        </p:nvPicPr>
        <p:blipFill>
          <a:blip r:embed="rId1"/>
          <a:stretch/>
        </p:blipFill>
        <p:spPr>
          <a:xfrm>
            <a:off x="0" y="3324240"/>
            <a:ext cx="9144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3.gstatic.com/images?q=tbn:ANd9GcSFGyzwts7g4M4s28Mtm6Ekd6dVjJfHCAwib6FrljcsjwqPomBc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257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law 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t2.gstatic.com/images?q=tbn:ANd9GcRoyt37ONC2wyaWg5LiHbiQZwDR68h9lVwzrrfmlgLTlIoFs-Cr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person who has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oup of people who lived apart from Greece but kept economic ties with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1.gstatic.com/images?q=tbn:ANd9GcSWKAWWUSxCvz8gskWE9zdPlWuCjOB7Ccij8j9kTlJxI9SLMK7Xfw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1828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ar evidence and make decisions in a court or la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t1.gstatic.com/images?q=tbn:ANd9GcRdEpQCYKOt3loojXuQrpWe8FLtJm-Ulomi8umVDU4ncRSHt_2rOw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t1.gstatic.com/images?q=tbn:ANd9GcRyHH7yW_d9vjux5YQpo64UgTmSE0L4fDdWB-5iG4ZDFzR6hqkK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5:11Z</dcterms:modified>
  <cp:revision>93</cp:revision>
  <dc:subject/>
  <dc:title>Ancient Greece</dc:title>
</cp:coreProperties>
</file>